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E1A-B977-4679-8F0F-7ECB5DC9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852-1D53-49A5-B451-7CD4D1B4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5EB-E779-4440-9FAE-AD6451A4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267-E3CD-410B-95D1-F7539907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E36-4C1F-48E3-98D4-61A1206F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272-BE25-4930-A070-198EEEAC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0EF-7BDF-490C-929C-4B81FAE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52A-8AF4-401F-B368-2DA7ECC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312-1173-47B2-8FCB-03F36A54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D63-2C6B-4195-A3ED-4C7AD95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5E9-D34B-4A29-AE58-57DB303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556-6C79-42B2-B089-FD69C42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7247-4E00-4BD5-97D8-0517DEC6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REALY BUGS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6480" y="14842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419112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36720" y="34210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75248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648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N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R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ip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295280"/>
            <a:ext cx="121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48006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4952880"/>
            <a:ext cx="19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hony.phan</cp:lastModifiedBy>
  <dcterms:modified xsi:type="dcterms:W3CDTF">2009-03-24T02:40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